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409474-CBF2-4E0C-B669-F2257D3B608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ldImg"/>
          </p:nvPr>
        </p:nvSpPr>
        <p:spPr>
          <a:xfrm>
            <a:off x="1143000" y="685800"/>
            <a:ext cx="4572000" cy="3429000"/>
          </a:xfrm>
          <a:prstGeom prst="rect">
            <a:avLst/>
          </a:prstGeom>
          <a:ln w="0">
            <a:noFill/>
          </a:ln>
        </p:spPr>
      </p:sp>
      <p:sp>
        <p:nvSpPr>
          <p:cNvPr id="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Electron affinity reflects the ability of an atom to accept an electron. It is the energy change that occurs when an electron is added to a gaseous atom. Atoms with stronger effective nuclear charge have greater electron affinity. </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This of affinity as attraction or love or like.  If an element wants to give up an electron, it doesn’t like electrons, so it will have a low affinity.  If an element wants to take an electron, then it likes electrons, and would have a high affinity.</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Note that the energy is negative because it gives of energy.</a:t>
            </a:r>
            <a:endParaRPr b="0" lang="en-US" sz="1200" spc="-1" strike="noStrike">
              <a:solidFill>
                <a:srgbClr val="000000"/>
              </a:solidFill>
              <a:latin typeface="Calibri"/>
            </a:endParaRPr>
          </a:p>
        </p:txBody>
      </p:sp>
      <p:sp>
        <p:nvSpPr>
          <p:cNvPr id="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EA3C7D-E6AB-4997-8B0B-61D66944174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ldImg"/>
          </p:nvPr>
        </p:nvSpPr>
        <p:spPr>
          <a:xfrm>
            <a:off x="1143000" y="685800"/>
            <a:ext cx="4572000" cy="3429000"/>
          </a:xfrm>
          <a:prstGeom prst="rect">
            <a:avLst/>
          </a:prstGeom>
          <a:ln w="0">
            <a:noFill/>
          </a:ln>
        </p:spPr>
      </p:sp>
      <p:sp>
        <p:nvSpPr>
          <p:cNvPr id="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Some generalizations can be made about the electron affinities of certain groups in the periodic table. The Group IIA elements, the alkaline earths, have low electron affinity values. Think about it, would they rather give up or accept an electron?  They would rather give them up, so their affinity for electrons would be low.</a:t>
            </a:r>
            <a:endParaRPr b="0" lang="en-US" sz="1200" spc="-1" strike="noStrike">
              <a:solidFill>
                <a:srgbClr val="000000"/>
              </a:solidFill>
              <a:latin typeface="Calibri"/>
            </a:endParaRPr>
          </a:p>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Group VIIA (7) elements, the halogens, have high electron affinities because the addition of an electron to an atom results in a completely filled shell. </a:t>
            </a:r>
            <a:endParaRPr b="0" lang="en-US" sz="1200" spc="-1" strike="noStrike">
              <a:solidFill>
                <a:srgbClr val="000000"/>
              </a:solidFill>
              <a:latin typeface="Calibri"/>
            </a:endParaRPr>
          </a:p>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Group VIII elements, noble gases, have electron affinities near zero, since each atom possesses a stable octet and will not accept an electron readily. </a:t>
            </a:r>
            <a:endParaRPr b="0" lang="en-US" sz="1200" spc="-1" strike="noStrike">
              <a:solidFill>
                <a:srgbClr val="000000"/>
              </a:solidFill>
              <a:latin typeface="Calibri"/>
            </a:endParaRPr>
          </a:p>
        </p:txBody>
      </p:sp>
      <p:sp>
        <p:nvSpPr>
          <p:cNvPr id="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D6C4AA-9C5C-4AC4-AF92-948C4AF4779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143000" y="685800"/>
            <a:ext cx="4572000" cy="3429000"/>
          </a:xfrm>
          <a:prstGeom prst="rect">
            <a:avLst/>
          </a:prstGeom>
          <a:ln w="0">
            <a:noFill/>
          </a:ln>
        </p:spPr>
      </p:sp>
      <p:sp>
        <p:nvSpPr>
          <p:cNvPr id="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lectron affinity becomes less negative down a group.</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lectron affinity mostly increases across the periodic table.</a:t>
            </a:r>
            <a:endParaRPr b="0" lang="en-US" sz="1200" spc="-1" strike="noStrike">
              <a:solidFill>
                <a:srgbClr val="000000"/>
              </a:solidFill>
              <a:latin typeface="Calibri"/>
            </a:endParaRPr>
          </a:p>
        </p:txBody>
      </p:sp>
      <p:sp>
        <p:nvSpPr>
          <p:cNvPr id="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54A78A-43F0-45DF-A9AF-4DEA95989B9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 can see that electron affinity dips and rises, due to where the electrons are in the atom.</a:t>
            </a:r>
            <a:endParaRPr b="0" lang="en-US" sz="1200" spc="-1" strike="noStrike">
              <a:solidFill>
                <a:srgbClr val="000000"/>
              </a:solidFill>
              <a:latin typeface="Calibri"/>
            </a:endParaRPr>
          </a:p>
        </p:txBody>
      </p:sp>
      <p:sp>
        <p:nvSpPr>
          <p:cNvPr id="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E8BEF6-E42C-49F3-957B-43957721973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 can see in the graph that the smaller the atom, the higher the electron affinity, and the larger the atom, the lower the electron affinity.  This is because if the electron being added is closer to the protons, as in the smaller atoms, it will be more attracted to the atom, and therefore be easier to add to the atom.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so, note the big dips at the noble gases, due to them not needing electr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8F538A-FCC3-49E6-863B-0AF3D5ECFDD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7859EC-3F7B-4EE1-BE54-0CBC8EF1A9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04B486-F4CC-4667-A504-7525A7E0ED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CFC113-D33A-44DC-BF1D-8362EADCD8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B2B581-7A66-42EF-B35F-C92C3721BA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338410-04E6-4B70-A23B-54767688B0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F3C12C-1464-495B-8A8E-35E8B315F6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C4F2C1-1412-4438-A844-594F19822A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4CCAA1-803A-4E8A-B2FC-17C1E27FF6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B1CC8A-9A73-4F55-8E4B-E74B465433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1C28F-69BA-4AC5-9AD0-19CC5B9F2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D9C72-4188-4551-959C-FFBA632E8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628F6-0D0A-4838-BA4F-36C0F66F7E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D9A6E2-93C7-4171-8F82-3CFBCA49E9B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ecture: Trends in the </a:t>
            </a:r>
            <a:br>
              <a:rPr sz="4400"/>
            </a:br>
            <a:r>
              <a:rPr b="0" lang="en-US" sz="4400" spc="-1" strike="noStrike">
                <a:solidFill>
                  <a:srgbClr val="000000"/>
                </a:solidFill>
                <a:latin typeface="Calibri"/>
              </a:rPr>
              <a:t>Periodic Table: Electron Affinit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Chemistry</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Unit 5</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Part 8</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opics</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lectron Affin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vie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
          <p:cNvPicPr/>
          <p:nvPr/>
        </p:nvPicPr>
        <p:blipFill>
          <a:blip r:embed="rId1"/>
          <a:srcRect l="0" t="0" r="3306" b="0"/>
          <a:stretch/>
        </p:blipFill>
        <p:spPr>
          <a:xfrm>
            <a:off x="0" y="743040"/>
            <a:ext cx="9144000" cy="5165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1" descr=""/>
          <p:cNvPicPr/>
          <p:nvPr/>
        </p:nvPicPr>
        <p:blipFill>
          <a:blip r:embed="rId1"/>
          <a:stretch/>
        </p:blipFill>
        <p:spPr>
          <a:xfrm>
            <a:off x="0" y="368280"/>
            <a:ext cx="9156600" cy="6105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
          <p:cNvPicPr/>
          <p:nvPr/>
        </p:nvPicPr>
        <p:blipFill>
          <a:blip r:embed="rId1"/>
          <a:stretch/>
        </p:blipFill>
        <p:spPr>
          <a:xfrm>
            <a:off x="0" y="622440"/>
            <a:ext cx="9144000" cy="5591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1" descr=""/>
          <p:cNvPicPr/>
          <p:nvPr/>
        </p:nvPicPr>
        <p:blipFill>
          <a:blip r:embed="rId1"/>
          <a:stretch/>
        </p:blipFill>
        <p:spPr>
          <a:xfrm>
            <a:off x="851040" y="0"/>
            <a:ext cx="744192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1" descr=""/>
          <p:cNvPicPr/>
          <p:nvPr/>
        </p:nvPicPr>
        <p:blipFill>
          <a:blip r:embed="rId1"/>
          <a:stretch/>
        </p:blipFill>
        <p:spPr>
          <a:xfrm>
            <a:off x="0" y="291960"/>
            <a:ext cx="9144000" cy="6253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15T13:25:50Z</dcterms:created>
  <dc:creator>Staff</dc:creator>
  <dc:description/>
  <dc:language>en-US</dc:language>
  <cp:lastModifiedBy>Staff</cp:lastModifiedBy>
  <dcterms:modified xsi:type="dcterms:W3CDTF">2014-06-03T19:18:42Z</dcterms:modified>
  <cp:revision>4</cp:revision>
  <dc:subject/>
  <dc:title>Lecture: Trends in the  Periodic Table: Electron Affinity</dc:title>
</cp:coreProperties>
</file>